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3DF-69D3-47C2-8C1B-78ADFB2D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093-84AB-4AAF-A59B-4256FC40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AB2-6D2C-4DB9-B76F-58F57C8D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506-5D5C-4778-AF67-DE87B369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C9C-0AB3-4CDC-99CF-401B88CA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D0A-605B-4BEE-99FD-F2DDD11C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BFF-F8EF-4A3B-A666-A680BEE8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8D8-5D21-4C71-9326-D0CB7532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C69-C60B-43EB-83E3-71A93537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2E0-0AAC-4C33-87D0-FB079823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A66-5643-4432-86EE-171E6E9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7AF-AD32-4DEE-9CBB-8DC5BC6A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C273-0E38-43CB-BA7D-5F8291DDD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189080" y="-171360"/>
          <a:ext cx="10945800" cy="727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9080" y="-171360"/>
                    <a:ext cx="10945800" cy="72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5880" y="61920"/>
            <a:ext cx="683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і про зміст звернень громадян за дев'ять місяців 2007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101170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117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119960" y="266760"/>
            <a:ext cx="69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ількість звернень громад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адресу обласної державної адміністраці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2002 - 2007 р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260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ількість звернень громадян до обласної державної адміністрації за 2007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-722160" y="692280"/>
          <a:ext cx="1029636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22160" y="692280"/>
                    <a:ext cx="1029636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-324000" y="0"/>
          <a:ext cx="97203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0"/>
                    <a:ext cx="9720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889920" y="26028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рненя громадян найменш соціально захищених категорі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о надійшли до обласної державної адміністрації за 2007-2006 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4:56:33Z</dcterms:created>
  <dc:creator>Roma</dc:creator>
  <dc:description/>
  <dc:language>en-US</dc:language>
  <cp:lastModifiedBy>Andrew</cp:lastModifiedBy>
  <dcterms:modified xsi:type="dcterms:W3CDTF">2008-01-24T10:35:33Z</dcterms:modified>
  <cp:revision>5</cp:revision>
  <dc:subject/>
  <dc:title>Слайд 1</dc:title>
</cp:coreProperties>
</file>